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gif" ContentType="image/gif"/>
  <Override PartName="/ppt/media/chimes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314-BAFB-454A-A6A9-AA10B3DF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5A2-A803-4EB6-AB25-6982BAB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D34-0AFC-4C74-8A64-7B201202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C44-A7A0-4DFC-B6C3-2B90502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DC4E-1B0B-4E71-81F0-90FC31AB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2700-E210-4FBD-95ED-01226D6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701E-CFF2-4D43-8C7B-2F27A906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E401-DFD3-434F-9341-E3002EA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D1D-8A9A-4F19-9229-94F3B1E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62D-669A-4927-A374-235F9D6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BE33-427F-4597-9300-CB6BD7B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216-73DB-425F-9C8A-4BB8975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883A-07C0-4D08-9852-88A5969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90A8-BACF-47FF-8DD1-5AFBDAE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45E4-D1DA-4646-95AD-D3A4893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11BF-C257-44A3-AF4F-68CAC957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E375-49ED-4107-8071-2B4A63E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444-D288-4574-B388-1921ECA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537-87BD-45C1-AD72-01E59B6C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04B-AECF-417F-8101-4D18F64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0D0-1208-4F1E-A0E1-8D6A79B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33B-EED7-4D13-A887-68E3A96C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478-9D0B-481F-B419-C13CFB08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6AA-F6C9-49D1-A139-9ED2A78A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48D-644E-47B5-9A54-A81DA557C4D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0139-7B33-446B-ABA0-E9CE0478899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6920" y="946080"/>
            <a:ext cx="413388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325080"/>
            <a:ext cx="828036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0160" indent="0" algn="r" rtl="1">
              <a:lnSpc>
                <a:spcPct val="9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Verdana"/>
                <a:cs typeface="Arabic Transparent"/>
              </a:rPr>
              <a:t>عوامل الضعف </a:t>
            </a:r>
            <a:r>
              <a:rPr b="0" lang="ar-EG" sz="40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  <a:ea typeface="Arabic Transparent"/>
              </a:rPr>
              <a:t>W</a:t>
            </a:r>
            <a:r>
              <a:rPr b="1" lang="ar-SA" sz="4000" spc="-1" strike="noStrike">
                <a:solidFill>
                  <a:srgbClr val="ff0066"/>
                </a:solidFill>
                <a:latin typeface="Verdana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ff0066"/>
                </a:solidFill>
                <a:latin typeface="Verdana"/>
                <a:ea typeface="Arabic Transparent"/>
              </a:rPr>
              <a:t>:</a:t>
            </a:r>
            <a:r>
              <a:rPr b="1" lang="ar-SA" sz="4800" spc="-1" strike="noStrike">
                <a:solidFill>
                  <a:srgbClr val="006666"/>
                </a:solidFill>
                <a:latin typeface="Verdana"/>
                <a:ea typeface="Arabic Transparent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353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عدم تطوير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برامج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تعليمية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  <a:ea typeface="Simplified Arabic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عدم تنوع طرق التدريس والتقوي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ضعف الاتصال مع مراكز البحوث العالم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موارد المالية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ضعيف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ترتيب المعهد الإقليمي والعالمي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ضعف في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أنشطة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  <a:ea typeface="Simplified Arabic"/>
              </a:rPr>
              <a:t> الترويجية والتسويق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ضعف في التنسيق والتعاون مع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سوق العمل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Verdana"/>
              </a:rPr>
              <a:t>الفرص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ar-EG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O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ar-BH" sz="3200" spc="-1" strike="noStrike">
                <a:solidFill>
                  <a:srgbClr val="ff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600" spc="-1" strike="noStrike">
                <a:solidFill>
                  <a:srgbClr val="006699"/>
                </a:solidFill>
                <a:latin typeface="Verdana"/>
              </a:rPr>
              <a:t>نسبة الإقبال </a:t>
            </a:r>
            <a:r>
              <a:rPr b="0" lang="ar-SA" sz="3600" spc="-1" strike="noStrike">
                <a:solidFill>
                  <a:srgbClr val="006699"/>
                </a:solidFill>
                <a:latin typeface="Verdana"/>
              </a:rPr>
              <a:t>على التعليم</a:t>
            </a:r>
            <a:r>
              <a:rPr b="0" lang="ar-EG" sz="3600" spc="-1" strike="noStrike">
                <a:solidFill>
                  <a:srgbClr val="006699"/>
                </a:solidFill>
                <a:latin typeface="Verdana"/>
              </a:rPr>
              <a:t> العال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006699"/>
                </a:solidFill>
                <a:latin typeface="Verdana"/>
              </a:rPr>
              <a:t>وجود تمويل عن طريق مشاريع التطوي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Verdana"/>
              </a:rPr>
              <a:t>المخاطر والتهديدات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ar-EG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Arabic Transparent"/>
              </a:rPr>
              <a:t>T</a:t>
            </a:r>
            <a:r>
              <a:rPr b="0" lang="ar-BH" sz="3200" spc="-1" strike="noStrike">
                <a:solidFill>
                  <a:srgbClr val="ff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شدة المنافس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6699"/>
                </a:solidFill>
                <a:latin typeface="Verdana"/>
              </a:rPr>
              <a:t>عدم ثبات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لقوانين والأنظم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6699"/>
                </a:solidFill>
                <a:latin typeface="Verdana"/>
              </a:rPr>
              <a:t>عدم كفاية فرص العمل المتاح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6699"/>
                </a:solidFill>
                <a:latin typeface="Verdana"/>
              </a:rPr>
              <a:t>البطالة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والأوضاع الاقتصاد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050920" y="4292640"/>
            <a:ext cx="457200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0066"/>
                </a:solidFill>
                <a:latin typeface="Verdana"/>
                <a:cs typeface="Arabic Transparent"/>
              </a:rPr>
              <a:t>التخطيط الإستراتيجي</a:t>
            </a:r>
            <a:endParaRPr b="1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626920" y="414972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DR. EMAN WAGDY GAB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SSIS. PROF. of Internal Medicine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Verdana"/>
              </a:rPr>
              <a:t>التخطيط الإستراتيج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دراسة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الو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ضع الحالى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للمعهد 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بكل أبعاده من قوة وضعف وتحديات وفر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و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بناء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تصورات وأهداف المستقبل بناءً على هذا الواق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ثم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وضع</a:t>
            </a:r>
            <a:r>
              <a:rPr b="1" lang="ar-SA" sz="3200" spc="-1" strike="noStrike">
                <a:solidFill>
                  <a:srgbClr val="006699"/>
                </a:solidFill>
                <a:latin typeface="Verdana"/>
              </a:rPr>
              <a:t> الخطط المستقبلية </a:t>
            </a:r>
            <a:r>
              <a:rPr b="1" lang="ar-EG" sz="3600" spc="-1" strike="noStrike">
                <a:solidFill>
                  <a:srgbClr val="006699"/>
                </a:solidFill>
                <a:latin typeface="Verdana"/>
              </a:rPr>
              <a:t>لتحقيق الأهداف وفقا لأولويات وجدول زمنى محدد وتحديد دقيق للمسئوليات.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993366"/>
                </a:solidFill>
                <a:latin typeface="Verdana"/>
                <a:cs typeface="Simplified Arabic"/>
              </a:rPr>
              <a:t>ببساطة</a:t>
            </a:r>
            <a:r>
              <a:rPr b="1" lang="ar-EG" sz="3200" spc="-1" strike="noStrike">
                <a:solidFill>
                  <a:srgbClr val="993366"/>
                </a:solidFill>
                <a:latin typeface="Verdana"/>
                <a:ea typeface="Simplified Arabic"/>
              </a:rPr>
              <a:t> هو</a:t>
            </a:r>
            <a:r>
              <a:rPr b="0" lang="ar-EG" sz="3200" spc="-1" strike="noStrike">
                <a:solidFill>
                  <a:srgbClr val="993366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993366"/>
                </a:solidFill>
                <a:latin typeface="Verdana"/>
                <a:cs typeface="Simplified Arabic"/>
              </a:rPr>
              <a:t>تحديد اتجاه </a:t>
            </a:r>
            <a:r>
              <a:rPr b="1" lang="ar-EG" sz="3200" spc="-1" strike="noStrike">
                <a:solidFill>
                  <a:srgbClr val="993366"/>
                </a:solidFill>
                <a:latin typeface="Verdana"/>
                <a:cs typeface="Simplified Arabic"/>
              </a:rPr>
              <a:t>المعهد</a:t>
            </a:r>
            <a:r>
              <a:rPr b="1" lang="ar-SA" sz="3200" spc="-1" strike="noStrike">
                <a:solidFill>
                  <a:srgbClr val="993366"/>
                </a:solidFill>
                <a:latin typeface="Verdana"/>
                <a:ea typeface="Simplified Arabic"/>
              </a:rPr>
              <a:t> في المرحلة المقب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6035760" cy="936720"/>
          </a:xfrm>
          <a:prstGeom prst="rect">
            <a:avLst/>
          </a:prstGeom>
          <a:noFill/>
          <a:ln w="76320">
            <a:solidFill>
              <a:srgbClr val="0066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66"/>
                </a:solidFill>
                <a:latin typeface="Verdana"/>
              </a:rPr>
              <a:t>ما هو التخطيط ..؟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133720"/>
            <a:ext cx="3047760" cy="192132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993366"/>
                </a:solidFill>
                <a:latin typeface="Times New Roman"/>
                <a:cs typeface="Arabic Transparent"/>
              </a:rPr>
              <a:t>عملية اتخاذ قرارات لتحديد اتجاه المستقبل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142640" y="2666880"/>
            <a:ext cx="213372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038480"/>
            <a:ext cx="1905120" cy="100764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99"/>
                </a:solidFill>
                <a:latin typeface="Times New Roman"/>
              </a:rPr>
              <a:t>أين نريد الوصول؟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4038480"/>
            <a:ext cx="1904760" cy="1464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99"/>
                </a:solidFill>
                <a:latin typeface="Times New Roman"/>
              </a:rPr>
              <a:t>أين نحـــن الآن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572000"/>
            <a:ext cx="4800600" cy="0"/>
          </a:xfrm>
          <a:prstGeom prst="line">
            <a:avLst/>
          </a:prstGeom>
          <a:ln w="57240">
            <a:solidFill>
              <a:srgbClr val="ff99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324120" y="2666880"/>
            <a:ext cx="160020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5638680"/>
            <a:ext cx="3581280" cy="990720"/>
          </a:xfrm>
          <a:prstGeom prst="rect">
            <a:avLst/>
          </a:prstGeom>
          <a:noFill/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0066"/>
                </a:solidFill>
                <a:latin typeface="Verdana"/>
              </a:rPr>
              <a:t>كيف نصل الى ما نريد؟</a:t>
            </a: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19320" y="6324480"/>
            <a:ext cx="175248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552720" y="6324480"/>
            <a:ext cx="1752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3059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400" spc="-1" strike="noStrike">
                <a:solidFill>
                  <a:srgbClr val="ff0066"/>
                </a:solidFill>
                <a:latin typeface="Verdana"/>
                <a:cs typeface="Simplified Arabic"/>
              </a:rPr>
              <a:t>التخطيط ال</a:t>
            </a:r>
            <a:r>
              <a:rPr b="1" lang="ar-EG" sz="3400" spc="-1" strike="noStrike">
                <a:solidFill>
                  <a:srgbClr val="ff0066"/>
                </a:solidFill>
                <a:latin typeface="Verdana"/>
                <a:cs typeface="Simplified Arabic"/>
              </a:rPr>
              <a:t>إ</a:t>
            </a:r>
            <a:r>
              <a:rPr b="1" lang="ar-JO" sz="3400" spc="-1" strike="noStrike">
                <a:solidFill>
                  <a:srgbClr val="ff0066"/>
                </a:solidFill>
                <a:latin typeface="Verdana"/>
                <a:cs typeface="Simplified Arabic"/>
              </a:rPr>
              <a:t>ستراتيجي يجيب على الأسئلة التالية: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8825040" y="645156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70028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ما هو موقعنا الحالي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أ</a:t>
            </a: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ين نريد </a:t>
            </a: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أ</a:t>
            </a: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ن نصل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كيف </a:t>
            </a: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نتجاوز الفجوة بين </a:t>
            </a: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موقعنا الحالي</a:t>
            </a: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 وما نصبو إليه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ماهو الجدول الزمنى للوصول للهدف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كيف نقيس التقدم الذي تم </a:t>
            </a:r>
            <a:r>
              <a:rPr b="1" lang="ar-EG" sz="4000" spc="-1" strike="noStrike">
                <a:solidFill>
                  <a:srgbClr val="000066"/>
                </a:solidFill>
                <a:latin typeface="Verdana"/>
              </a:rPr>
              <a:t>إ</a:t>
            </a: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حرازه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0066"/>
                </a:solidFill>
                <a:latin typeface="Verdana"/>
              </a:rPr>
              <a:t>كيف نتابع التقدم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50920" y="476280"/>
            <a:ext cx="5994360" cy="1764000"/>
            <a:chOff x="2050920" y="476280"/>
            <a:chExt cx="5994360" cy="1764000"/>
          </a:xfrm>
        </p:grpSpPr>
        <p:sp>
          <p:nvSpPr>
            <p:cNvPr id="193" name=""/>
            <p:cNvSpPr/>
            <p:nvPr/>
          </p:nvSpPr>
          <p:spPr>
            <a:xfrm>
              <a:off x="2050920" y="476280"/>
              <a:ext cx="5994360" cy="16480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3360">
              <a:solidFill>
                <a:srgbClr val="800080"/>
              </a:solidFill>
              <a:prstDash val="sysDot"/>
              <a:miter/>
            </a:ln>
            <a:effectLst>
              <a:outerShdw dist="107932" dir="135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spcBef>
                  <a:spcPts val="2750"/>
                </a:spcBef>
                <a:spcAft>
                  <a:spcPts val="27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99"/>
                  </a:solidFill>
                  <a:latin typeface="Arial"/>
                  <a:ea typeface="Simplified Arabic"/>
                </a:rPr>
                <a:t> </a:t>
              </a:r>
              <a:endParaRPr b="0" lang="en-US" sz="4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2880" y="928800"/>
              <a:ext cx="48301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66"/>
                  </a:solidFill>
                  <a:latin typeface="Simplified Arabic"/>
                  <a:cs typeface="Simplified Arabic"/>
                </a:rPr>
                <a:t>وضع الأهداف ا</a:t>
              </a:r>
              <a:r>
                <a:rPr b="1" lang="ar-EG" sz="4000" spc="-1" strike="noStrike">
                  <a:solidFill>
                    <a:srgbClr val="000066"/>
                  </a:solidFill>
                  <a:latin typeface="Simplified Arabic"/>
                  <a:cs typeface="Simplified Arabic"/>
                </a:rPr>
                <a:t>لإ</a:t>
              </a:r>
              <a:r>
                <a:rPr b="1" lang="ar-SA" sz="4000" spc="-1" strike="noStrike">
                  <a:solidFill>
                    <a:srgbClr val="000066"/>
                  </a:solidFill>
                  <a:latin typeface="Simplified Arabic"/>
                  <a:cs typeface="Simplified Arabic"/>
                </a:rPr>
                <a:t>ستراتيجية</a:t>
              </a:r>
              <a:endParaRPr b="0" lang="en-US" sz="4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rot="5400000">
            <a:off x="6316200" y="2620800"/>
            <a:ext cx="2278080" cy="187812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25560">
            <a:solidFill>
              <a:srgbClr val="993366"/>
            </a:solidFill>
            <a:miter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579600">
            <a:off x="6372000" y="2867400"/>
            <a:ext cx="2209680" cy="10688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068840"/>
              <a:gd name="textAreaBottom" fmla="*/ 1069200 h 106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ماذا</a:t>
            </a: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نريد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3916800" y="2566080"/>
            <a:ext cx="2133720" cy="18781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25560">
            <a:solidFill>
              <a:srgbClr val="993366"/>
            </a:solidFill>
            <a:miter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2581560"/>
            <a:ext cx="2057400" cy="15552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555200"/>
              <a:gd name="textAreaBottom" fmla="*/ 1555560 h 155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ما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هو الأهم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1442520" y="2525760"/>
            <a:ext cx="2087640" cy="18781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25560">
            <a:solidFill>
              <a:srgbClr val="993366"/>
            </a:solidFill>
            <a:miter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2360" y="2619720"/>
            <a:ext cx="1871640" cy="15552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55200"/>
              <a:gd name="textAreaBottom" fmla="*/ 1555560 h 155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66"/>
                </a:solidFill>
                <a:latin typeface="Verdana"/>
              </a:rPr>
              <a:t>من المسئول</a:t>
            </a:r>
            <a:r>
              <a:rPr b="1" lang="ar-SA" sz="3200" spc="-1" strike="noStrike">
                <a:solidFill>
                  <a:srgbClr val="000066"/>
                </a:solidFill>
                <a:latin typeface="Verdana"/>
              </a:rPr>
              <a:t>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72360" y="4797360"/>
            <a:ext cx="1981080" cy="15321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4120" y="3298320"/>
            <a:ext cx="2340000" cy="27230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Snap ITC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تحديد</a:t>
            </a: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الهد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4653000"/>
            <a:ext cx="1981080" cy="16765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9600" y="4015440"/>
            <a:ext cx="2355840" cy="19425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99"/>
                </a:solidFill>
                <a:latin typeface="Verdana"/>
              </a:rPr>
              <a:t>تحديد الاولويات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4581360"/>
            <a:ext cx="1981440" cy="16765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7680" y="4650840"/>
            <a:ext cx="2687760" cy="13388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99"/>
                </a:solidFill>
                <a:latin typeface="Verdana"/>
              </a:rPr>
              <a:t>تحديد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99"/>
                </a:solidFill>
                <a:latin typeface="Verdana"/>
              </a:rPr>
              <a:t> المسئوليات</a:t>
            </a:r>
            <a:r>
              <a:rPr b="1" lang="ar-SA" sz="2400" spc="-1" strike="noStrike">
                <a:solidFill>
                  <a:srgbClr val="000066"/>
                </a:solidFill>
                <a:latin typeface="Snap ITC"/>
                <a:ea typeface="Simplified Arabic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Verdana"/>
              </a:rPr>
              <a:t>SWOT Analysi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هو أحد الأدوات التي تستخدم في التخطيط الإستراتيجي، وذلك بهدف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الاستفادة من مواطن القوة الداخلية والفرص المتاحة خارجياً في بلوغ الأهداف 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</a:rPr>
              <a:t> والتقليل من تأثير مواطن الضعف الداخلية والتهديدات الخارجية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993366"/>
                </a:solidFill>
                <a:latin typeface="Verdana"/>
              </a:rPr>
              <a:t>التحليل الإستراتيجي الرباعي</a:t>
            </a:r>
            <a:r>
              <a:rPr b="1" lang="ar-JO" sz="3200" spc="-1" strike="noStrike">
                <a:solidFill>
                  <a:srgbClr val="993366"/>
                </a:solidFill>
                <a:latin typeface="Verdana"/>
                <a:ea typeface="Farsi Simple Bold"/>
              </a:rPr>
              <a:t> (</a:t>
            </a:r>
            <a:r>
              <a:rPr b="1" lang="en-US" sz="3200" spc="-1" strike="noStrike">
                <a:solidFill>
                  <a:srgbClr val="993366"/>
                </a:solidFill>
                <a:latin typeface="Felix Titling"/>
                <a:ea typeface="Farsi Simple Bold"/>
              </a:rPr>
              <a:t>SWOT</a:t>
            </a:r>
            <a:r>
              <a:rPr b="1" lang="en-US" sz="3200" spc="-1" strike="noStrike">
                <a:solidFill>
                  <a:srgbClr val="993366"/>
                </a:solidFill>
                <a:latin typeface="Verdana"/>
                <a:ea typeface="Farsi Simple Bold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5280" y="3716280"/>
            <a:ext cx="6913440" cy="1050840"/>
            <a:chOff x="395280" y="3716280"/>
            <a:chExt cx="6913440" cy="1050840"/>
          </a:xfrm>
        </p:grpSpPr>
        <p:sp>
          <p:nvSpPr>
            <p:cNvPr id="212" name=""/>
            <p:cNvSpPr/>
            <p:nvPr/>
          </p:nvSpPr>
          <p:spPr>
            <a:xfrm>
              <a:off x="395280" y="3716280"/>
              <a:ext cx="6913440" cy="1050840"/>
            </a:xfrm>
            <a:prstGeom prst="leftArrow">
              <a:avLst>
                <a:gd name="adj1" fmla="val 50000"/>
                <a:gd name="adj2" fmla="val 114888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8100000"/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4160" y="4083480"/>
              <a:ext cx="1563840" cy="322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172f5e"/>
                </a:gs>
                <a:gs pos="100000">
                  <a:srgbClr val="3366c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1827360"/>
                  <a:tab algn="l" pos="3654360"/>
                  <a:tab algn="l" pos="5481720"/>
                  <a:tab algn="l" pos="7308720"/>
                  <a:tab algn="l" pos="9136080"/>
                  <a:tab algn="l" pos="1096344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1827360"/>
                  <a:tab algn="l" pos="3654360"/>
                  <a:tab algn="l" pos="5481720"/>
                  <a:tab algn="l" pos="7308720"/>
                  <a:tab algn="l" pos="9136080"/>
                  <a:tab algn="l" pos="1096344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Monotype Koufi"/>
                </a:rPr>
                <a:t>الرؤيـة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Monotype Koufi"/>
                </a:rPr>
                <a:t> </a:t>
              </a: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Monotype Koufi"/>
                </a:rPr>
                <a:t>المستقبلية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1827360"/>
                  <a:tab algn="l" pos="3654360"/>
                  <a:tab algn="l" pos="5481720"/>
                  <a:tab algn="l" pos="7308720"/>
                  <a:tab algn="l" pos="9136080"/>
                  <a:tab algn="l" pos="1096344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40920" y="4083480"/>
              <a:ext cx="1563840" cy="322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172f5e"/>
                </a:gs>
                <a:gs pos="100000">
                  <a:srgbClr val="3366c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1827360"/>
                  <a:tab algn="l" pos="3654360"/>
                  <a:tab algn="l" pos="5481720"/>
                  <a:tab algn="l" pos="7308720"/>
                  <a:tab algn="l" pos="9136080"/>
                  <a:tab algn="l" pos="1096344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Monotype Koufi"/>
                </a:rPr>
                <a:t>الاهداف  المنشودة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17680" y="4083480"/>
              <a:ext cx="1563840" cy="322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172f5e"/>
                </a:gs>
                <a:gs pos="100000">
                  <a:srgbClr val="3366c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1827360"/>
                  <a:tab algn="l" pos="3654360"/>
                  <a:tab algn="l" pos="5481720"/>
                  <a:tab algn="l" pos="7308720"/>
                  <a:tab algn="l" pos="9136080"/>
                  <a:tab algn="l" pos="1096344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Monotype Koufi"/>
                </a:rPr>
                <a:t>الاستراتيجيات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932360" y="4508640"/>
            <a:ext cx="2808360" cy="1512360"/>
            <a:chOff x="4932360" y="4508640"/>
            <a:chExt cx="2808360" cy="1512360"/>
          </a:xfrm>
        </p:grpSpPr>
        <p:sp>
          <p:nvSpPr>
            <p:cNvPr id="217" name=""/>
            <p:cNvSpPr/>
            <p:nvPr/>
          </p:nvSpPr>
          <p:spPr>
            <a:xfrm flipV="1">
              <a:off x="6485760" y="4508640"/>
              <a:ext cx="0" cy="196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32360" y="4754520"/>
              <a:ext cx="2808360" cy="12664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5080" rIns="145080" tIns="72720" bIns="7272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r>
                <a:rPr b="1" lang="ar-SA" sz="2400" spc="-1" strike="noStrike" u="sng">
                  <a:solidFill>
                    <a:srgbClr val="ffff00"/>
                  </a:solidFill>
                  <a:uFillTx/>
                  <a:latin typeface="Times New Roman"/>
                  <a:cs typeface="Monotype Koufi"/>
                </a:rPr>
                <a:t>الفرص المتاحة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O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08000" y="4508280"/>
            <a:ext cx="2519640" cy="1512720"/>
            <a:chOff x="1908000" y="4508280"/>
            <a:chExt cx="2519640" cy="1512720"/>
          </a:xfrm>
        </p:grpSpPr>
        <p:sp>
          <p:nvSpPr>
            <p:cNvPr id="220" name=""/>
            <p:cNvSpPr/>
            <p:nvPr/>
          </p:nvSpPr>
          <p:spPr>
            <a:xfrm flipV="1">
              <a:off x="3076200" y="4508280"/>
              <a:ext cx="0" cy="245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8000" y="4754520"/>
              <a:ext cx="2519640" cy="1266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5080" rIns="145080" tIns="72720" bIns="7272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r>
                <a:rPr b="1" lang="ar-SA" sz="2000" spc="-1" strike="noStrike" u="sng">
                  <a:solidFill>
                    <a:srgbClr val="ffff00"/>
                  </a:solidFill>
                  <a:uFillTx/>
                  <a:latin typeface="Times New Roman"/>
                  <a:cs typeface="Monotype Koufi"/>
                </a:rPr>
                <a:t>المخاطر أو التهديدات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      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T</a:t>
              </a: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endParaRPr b="0" lang="en-US" sz="3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32360" y="1413000"/>
            <a:ext cx="2633400" cy="2579400"/>
            <a:chOff x="4932360" y="1413000"/>
            <a:chExt cx="2633400" cy="2579400"/>
          </a:xfrm>
        </p:grpSpPr>
        <p:sp>
          <p:nvSpPr>
            <p:cNvPr id="223" name=""/>
            <p:cNvSpPr/>
            <p:nvPr/>
          </p:nvSpPr>
          <p:spPr>
            <a:xfrm>
              <a:off x="6235200" y="3689280"/>
              <a:ext cx="0" cy="303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932360" y="1413000"/>
              <a:ext cx="2633400" cy="2384280"/>
              <a:chOff x="4932360" y="1413000"/>
              <a:chExt cx="2633400" cy="2384280"/>
            </a:xfrm>
          </p:grpSpPr>
          <p:sp>
            <p:nvSpPr>
              <p:cNvPr id="225" name=""/>
              <p:cNvSpPr/>
              <p:nvPr/>
            </p:nvSpPr>
            <p:spPr>
              <a:xfrm>
                <a:off x="4932360" y="1478160"/>
                <a:ext cx="2449440" cy="23191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ea typeface="Traditional Arabic"/>
                  </a:rPr>
                  <a:t>             </a:t>
                </a:r>
                <a:endParaRPr b="0" lang="en-US" sz="1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28080" y="1413000"/>
                <a:ext cx="2137680" cy="17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 u="sng">
                    <a:solidFill>
                      <a:srgbClr val="ffff00"/>
                    </a:solidFill>
                    <a:uFillTx/>
                    <a:latin typeface="Times New Roman"/>
                    <a:cs typeface="Monotype Koufi"/>
                  </a:rPr>
                  <a:t>نقاط القوة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S</a:t>
                </a:r>
                <a:r>
                  <a:rPr b="1" lang="en-US" sz="2400" spc="-1" strike="noStrike">
                    <a:solidFill>
                      <a:srgbClr val="006699"/>
                    </a:solidFill>
                    <a:latin typeface="Times New Roman"/>
                    <a:ea typeface="Monotype Koufi"/>
                  </a:rPr>
                  <a:t>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1692360" y="1484280"/>
            <a:ext cx="2592360" cy="2447640"/>
            <a:chOff x="1692360" y="1484280"/>
            <a:chExt cx="2592360" cy="2447640"/>
          </a:xfrm>
        </p:grpSpPr>
        <p:sp>
          <p:nvSpPr>
            <p:cNvPr id="228" name=""/>
            <p:cNvSpPr/>
            <p:nvPr/>
          </p:nvSpPr>
          <p:spPr>
            <a:xfrm>
              <a:off x="3061800" y="3638160"/>
              <a:ext cx="0" cy="293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692360" y="1484280"/>
              <a:ext cx="2592360" cy="2250360"/>
              <a:chOff x="1692360" y="1484280"/>
              <a:chExt cx="2592360" cy="2250360"/>
            </a:xfrm>
          </p:grpSpPr>
          <p:sp>
            <p:nvSpPr>
              <p:cNvPr id="230" name=""/>
              <p:cNvSpPr/>
              <p:nvPr/>
            </p:nvSpPr>
            <p:spPr>
              <a:xfrm>
                <a:off x="1985760" y="1484280"/>
                <a:ext cx="2298960" cy="225036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100" spc="-1" strike="noStrike">
                    <a:solidFill>
                      <a:srgbClr val="ffffff"/>
                    </a:solidFill>
                    <a:latin typeface="Times New Roman"/>
                    <a:ea typeface="Traditional Arabic"/>
                  </a:rPr>
                  <a:t>      </a:t>
                </a:r>
                <a:endParaRPr b="0" lang="en-US" sz="11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100" spc="-1" strike="noStrike">
                    <a:solidFill>
                      <a:srgbClr val="ffffff"/>
                    </a:solidFill>
                    <a:latin typeface="Times New Roman"/>
                    <a:ea typeface="Traditional Arabic"/>
                  </a:rPr>
                  <a:t>              </a:t>
                </a:r>
                <a:endParaRPr b="0" lang="en-US" sz="11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92360" y="1484280"/>
                <a:ext cx="2396520" cy="17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 u="sng">
                    <a:solidFill>
                      <a:srgbClr val="ffff00"/>
                    </a:solidFill>
                    <a:uFillTx/>
                    <a:latin typeface="Times New Roman"/>
                    <a:cs typeface="Monotype Koufi"/>
                  </a:rPr>
                  <a:t>نقاط الضعف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W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  <a:ea typeface="Monotype Koufi"/>
                  </a:rPr>
                  <a:t> </a:t>
                </a: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  <a:ea typeface="Monotype Koufi"/>
                  </a:rPr>
                  <a:t>       </a:t>
                </a:r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748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Verdana"/>
                <a:cs typeface="Arabic Transparent"/>
              </a:rPr>
              <a:t>عوامل القوة</a:t>
            </a:r>
            <a:r>
              <a:rPr b="1" lang="ar-EG" sz="3600" spc="-1" strike="noStrike">
                <a:solidFill>
                  <a:srgbClr val="ff0066"/>
                </a:solidFill>
                <a:latin typeface="Verdana"/>
                <a:ea typeface="Arabic Transparent"/>
              </a:rPr>
              <a:t> </a:t>
            </a:r>
            <a:r>
              <a:rPr b="0" lang="ar-EG" sz="36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  <a:ea typeface="Arabic Transparent"/>
              </a:rPr>
              <a:t>(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  <a:ea typeface="Arabic Transparent"/>
              </a:rPr>
              <a:t>S</a:t>
            </a:r>
            <a:r>
              <a:rPr b="0" lang="ar-EG" sz="3600" spc="-1" strike="noStrike">
                <a:solidFill>
                  <a:srgbClr val="ff0066"/>
                </a:solidFill>
                <a:latin typeface="Verdana"/>
                <a:ea typeface="Arabic Transparent"/>
              </a:rPr>
              <a:t>:</a:t>
            </a:r>
            <a:br>
              <a:rPr sz="60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04960" y="1731600"/>
            <a:ext cx="833904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أعضاء هيئة تدريس مؤهل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و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بنيه تحتية متكام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مختبرات وتجهيزات متطو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برامج دراسية حديثة ومتنوع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ea typeface="Simplified Arabic"/>
              </a:rPr>
              <a:t> سمعة الخريجين 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ممتاز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SA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بحث علمي متميز محلياً وإقليمياً</a:t>
            </a:r>
            <a:r>
              <a:rPr b="1" lang="ar-EG" sz="3200" spc="-1" strike="noStrike">
                <a:solidFill>
                  <a:srgbClr val="006699"/>
                </a:solidFill>
                <a:latin typeface="Verdana"/>
                <a:ea typeface="Simplified Arabic"/>
              </a:rPr>
              <a:t> ودوليا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-428760" algn="just" rtl="1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6666"/>
              </a:buClr>
              <a:buFont typeface="Wingdings" charset="2"/>
              <a:buChar char=""/>
              <a:tabLst>
                <a:tab algn="l" pos="71928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ar-EG" sz="3200" spc="-1" strike="noStrike">
                <a:solidFill>
                  <a:srgbClr val="006699"/>
                </a:solidFill>
                <a:latin typeface="Verdana"/>
                <a:cs typeface="Simplified Arabic"/>
              </a:rPr>
              <a:t>القدرة على توفير الموارد الذات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6:03:21Z</dcterms:created>
  <dc:creator>User</dc:creator>
  <dc:description/>
  <dc:language>en-US</dc:language>
  <cp:lastModifiedBy>User</cp:lastModifiedBy>
  <dcterms:modified xsi:type="dcterms:W3CDTF">2009-07-11T16:01:07Z</dcterms:modified>
  <cp:revision>54</cp:revision>
  <dc:subject/>
  <dc:title>التخطيط الإستراتيجي</dc:title>
</cp:coreProperties>
</file>